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F5CB-ADC2-4C33-B94A-432EDA4E7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1911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months, there has been a lot of discussion about the link between nasal and ocular sympto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2852B-5C26-425A-89E5-05296B07F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A205-0E07-4FFE-8655-FD64C972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83567-A945-48F2-B0F2-1DAD07413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6E683-873E-48B1-A6D4-2B9C1B74C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D3649-4AF4-4DAA-86EB-5FEC46AC3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524C4-7903-4F92-937D-DB381B0D1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CBE76-48BE-4EBA-8D69-192409705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045AB-3B38-4385-8FC5-2A321568A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04FC5-C8D2-456C-917C-387D3C354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D5C3-C31B-4E65-8022-82393A63B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BEA3-A70E-4437-A1D4-2ACAF6F6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1FEA-BAE7-41AC-BE6A-8B82F6EB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A054B-CDFD-4454-90FE-2A5540D4B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E914C-ECBB-4E02-B929-AFD715214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70F68-B809-4123-8139-B2B407519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76F9F-8D2F-44A0-998C-E12A9C70C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6B06C-14C2-47C2-86D3-A6D9293B7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7B09-B34A-4A41-8555-37015441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1ACE5-0634-40F7-9F7E-F6AA7DCA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7773-6F2F-451F-8B7F-1681398E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4896D-D041-4060-B2C3-A4018F79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23ED-C449-4158-84DA-56B77A958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3FF-0776-4028-96C0-DAD662CDE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83DB-8A42-49DA-90D5-4ED35E574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CCFD-E584-4F86-AE80-1309CD56A4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884E-1EDE-469D-90C9-C7FF4000AF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hinolight.r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hipertrofice</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i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 INFERIOARE, MEDII SUPERIOAR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TUBAR</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SINUSO-MAXILAR</a:t>
            </a:r>
            <a:endParaRPr b="0" lang="en-US" sz="2800" spc="-1" strike="noStrike">
              <a:solidFill>
                <a:srgbClr val="ffffff"/>
              </a:solidFill>
              <a:latin typeface="Arial"/>
            </a:endParaRPr>
          </a:p>
        </p:txBody>
      </p:sp>
      <p:pic>
        <p:nvPicPr>
          <p:cNvPr id="170" name="" descr=""/>
          <p:cNvPicPr/>
          <p:nvPr/>
        </p:nvPicPr>
        <p:blipFill>
          <a:blip r:embed="rId5"/>
          <a:stretch/>
        </p:blipFill>
        <p:spPr>
          <a:xfrm>
            <a:off x="4762440" y="2473200"/>
            <a:ext cx="3810240" cy="27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277920"/>
            <a:ext cx="8893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Simptome nazale </a:t>
            </a:r>
            <a:r>
              <a:rPr b="0" lang="ro-RO" sz="4400" spc="-1" strike="noStrike">
                <a:solidFill>
                  <a:srgbClr val="66ffff"/>
                </a:solidFill>
                <a:latin typeface="Arial"/>
              </a:rPr>
              <a:t>ş</a:t>
            </a:r>
            <a:r>
              <a:rPr b="0" lang="en-US" sz="4400" spc="-1" strike="noStrike">
                <a:solidFill>
                  <a:srgbClr val="66ffff"/>
                </a:solidFill>
                <a:latin typeface="Arial"/>
              </a:rPr>
              <a:t>i oculare </a:t>
            </a:r>
            <a:r>
              <a:rPr b="0" lang="ro-RO" sz="4400" spc="-1" strike="noStrike">
                <a:solidFill>
                  <a:srgbClr val="66ffff"/>
                </a:solidFill>
                <a:latin typeface="Arial"/>
              </a:rPr>
              <a:t>î</a:t>
            </a:r>
            <a:r>
              <a:rPr b="0" lang="en-US" sz="4400" spc="-1" strike="noStrike">
                <a:solidFill>
                  <a:srgbClr val="66ffff"/>
                </a:solidFill>
                <a:latin typeface="Arial"/>
              </a:rPr>
              <a:t>n alergii</a:t>
            </a:r>
            <a:endParaRPr b="0" lang="en-US" sz="4400" spc="-1" strike="noStrike">
              <a:solidFill>
                <a:srgbClr val="ffffff"/>
              </a:solidFill>
              <a:latin typeface="Arial"/>
            </a:endParaRPr>
          </a:p>
        </p:txBody>
      </p:sp>
      <p:pic>
        <p:nvPicPr>
          <p:cNvPr id="199" name="" descr=""/>
          <p:cNvPicPr/>
          <p:nvPr/>
        </p:nvPicPr>
        <p:blipFill>
          <a:blip r:embed="rId1"/>
          <a:stretch/>
        </p:blipFill>
        <p:spPr>
          <a:xfrm>
            <a:off x="2511360" y="1500120"/>
            <a:ext cx="4461120" cy="4597560"/>
          </a:xfrm>
          <a:prstGeom prst="rect">
            <a:avLst/>
          </a:prstGeom>
          <a:ln w="0">
            <a:noFill/>
          </a:ln>
        </p:spPr>
      </p:pic>
      <p:sp>
        <p:nvSpPr>
          <p:cNvPr id="200" name=""/>
          <p:cNvSpPr/>
          <p:nvPr/>
        </p:nvSpPr>
        <p:spPr>
          <a:xfrm>
            <a:off x="1128960" y="11937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1" name=""/>
          <p:cNvSpPr/>
          <p:nvPr/>
        </p:nvSpPr>
        <p:spPr>
          <a:xfrm>
            <a:off x="140400" y="18939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o</a:t>
            </a:r>
            <a:r>
              <a:rPr b="1" lang="ro-RO" sz="1800" spc="-1" strike="noStrike">
                <a:solidFill>
                  <a:srgbClr val="ffffff"/>
                </a:solidFill>
                <a:latin typeface="Arial"/>
                <a:ea typeface="Arial"/>
              </a:rPr>
              <a:t>ş</a:t>
            </a:r>
            <a:r>
              <a:rPr b="1" lang="en-US" sz="1800" spc="-1" strike="noStrike">
                <a:solidFill>
                  <a:srgbClr val="ffffff"/>
                </a:solidFill>
                <a:latin typeface="Arial"/>
                <a:ea typeface="Arial"/>
              </a:rPr>
              <a:t>ea</a:t>
            </a:r>
            <a:r>
              <a:rPr b="1" lang="ro-RO" sz="1800" spc="-1" strike="noStrike">
                <a:solidFill>
                  <a:srgbClr val="ffffff"/>
                </a:solidFill>
                <a:latin typeface="Arial"/>
                <a:ea typeface="Arial"/>
              </a:rPr>
              <a:t>ţă</a:t>
            </a:r>
            <a:r>
              <a:rPr b="1"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202" name=""/>
          <p:cNvSpPr/>
          <p:nvPr/>
        </p:nvSpPr>
        <p:spPr>
          <a:xfrm>
            <a:off x="2880" y="2637000"/>
            <a:ext cx="12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crimare</a:t>
            </a:r>
            <a:endParaRPr b="0" lang="en-US" sz="1800" spc="-1" strike="noStrike">
              <a:solidFill>
                <a:srgbClr val="ffffff"/>
              </a:solidFill>
              <a:latin typeface="Arial"/>
            </a:endParaRPr>
          </a:p>
        </p:txBody>
      </p:sp>
      <p:sp>
        <p:nvSpPr>
          <p:cNvPr id="203" name=""/>
          <p:cNvSpPr/>
          <p:nvPr/>
        </p:nvSpPr>
        <p:spPr>
          <a:xfrm>
            <a:off x="7277400" y="37767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inoree</a:t>
            </a:r>
            <a:endParaRPr b="0" lang="en-US" sz="1800" spc="-1" strike="noStrike">
              <a:solidFill>
                <a:srgbClr val="ffffff"/>
              </a:solidFill>
              <a:latin typeface="Arial"/>
            </a:endParaRPr>
          </a:p>
        </p:txBody>
      </p:sp>
      <p:sp>
        <p:nvSpPr>
          <p:cNvPr id="204" name=""/>
          <p:cNvSpPr/>
          <p:nvPr/>
        </p:nvSpPr>
        <p:spPr>
          <a:xfrm>
            <a:off x="7089840" y="30956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gestie</a:t>
            </a:r>
            <a:endParaRPr b="0" lang="en-US" sz="1800" spc="-1" strike="noStrike">
              <a:solidFill>
                <a:srgbClr val="ffffff"/>
              </a:solidFill>
              <a:latin typeface="Arial"/>
            </a:endParaRPr>
          </a:p>
        </p:txBody>
      </p:sp>
      <p:sp>
        <p:nvSpPr>
          <p:cNvPr id="205" name=""/>
          <p:cNvSpPr/>
          <p:nvPr/>
        </p:nvSpPr>
        <p:spPr>
          <a:xfrm>
            <a:off x="7934040" y="4583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nut</a:t>
            </a:r>
            <a:endParaRPr b="0" lang="en-US" sz="1800" spc="-1" strike="noStrike">
              <a:solidFill>
                <a:srgbClr val="ffffff"/>
              </a:solidFill>
              <a:latin typeface="Arial"/>
            </a:endParaRPr>
          </a:p>
        </p:txBody>
      </p:sp>
      <p:sp>
        <p:nvSpPr>
          <p:cNvPr id="206" name=""/>
          <p:cNvSpPr/>
          <p:nvPr/>
        </p:nvSpPr>
        <p:spPr>
          <a:xfrm>
            <a:off x="7481880" y="5211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7" name=""/>
          <p:cNvSpPr/>
          <p:nvPr/>
        </p:nvSpPr>
        <p:spPr>
          <a:xfrm>
            <a:off x="2027160" y="1425600"/>
            <a:ext cx="2706840" cy="156384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312920" y="2117880"/>
            <a:ext cx="2936880" cy="6555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197000" y="2884320"/>
            <a:ext cx="2927160" cy="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6497280" y="3470400"/>
            <a:ext cx="1320840" cy="93492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6695640" y="4140360"/>
            <a:ext cx="723960" cy="8697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6940080" y="4795920"/>
            <a:ext cx="1025640" cy="7920"/>
          </a:xfrm>
          <a:prstGeom prst="line">
            <a:avLst/>
          </a:prstGeom>
          <a:ln w="28440">
            <a:solidFill>
              <a:srgbClr val="7b46d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3" name=""/>
          <p:cNvSpPr/>
          <p:nvPr/>
        </p:nvSpPr>
        <p:spPr>
          <a:xfrm flipH="1" flipV="1">
            <a:off x="6454440" y="5157360"/>
            <a:ext cx="1017720" cy="24948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44440" y="6369120"/>
            <a:ext cx="8118360" cy="274680"/>
          </a:xfrm>
          <a:prstGeom prst="rect">
            <a:avLst/>
          </a:prstGeom>
          <a:noFill/>
          <a:ln w="0">
            <a:noFill/>
          </a:ln>
        </p:spPr>
        <p:style>
          <a:lnRef idx="0"/>
          <a:fillRef idx="0"/>
          <a:effectRef idx="0"/>
          <a:fontRef idx="minor"/>
        </p:style>
        <p:txBody>
          <a:bodyPr lIns="0" rIns="0" tIns="0" bIns="0" anchor="b">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lide used with permission of Robert Naclerio, MD.</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cunoaşterea rinitei alergice</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l puţin una dintre simptomele specifice persistă mai multe zile pe săptămână, una sau mai multe ore pe zi. În funcţie de sezonalitatea şi durata acţiunii alergenului asupra mucoasei nazale, care va produce reacţia alergică imflamatorie, deosebim rinită alergică perenă (simptomele persistă pe tot parcursul anului) şi rinită alergică sezonială (simptomele sunt prezente câteva săptămâni sau luni). Cea din urmă este prezentă de obicei primăvara, vara şi toamna timpurie şi se numeşte febra fânului, termen utillizat (incorect) pentru definiţia rinitei alergice ca atare. Simptomele nu sunt totdeauna severe, dar este indicat ca bolnavul să consulte un medic specialist, deoarece în cazul rinitei alergice asocierea astmului bronşic se constată de 3-6 ori mai frecvent decât în populaţia care nu suferă de rinită alergic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ând trebuie să ne gândim ca simptomele sunt provocate de alergi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familie s-au înregistrat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primului copil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baieţilor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că la bolnav s-au înregistrat în prealabil alte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apar în acelaşi anotimp sau/şi sunt legate de un anumit loc (ex: casă veche)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sunt legate de o anume activitate (ex. munci agricol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ţara noastră pentru apariţia rinitei alergice sezonale cel mai frecvent sunt răspunzătoare polenurile diferitelor pomi, ierburi, flori şi buruieni. Plantele anemofile produc cantităţi mari de polenuri de mică greutate care provoacă simptome alergice la persoanale sensibile. Polenurile sfreice ale plantelor anemofile sunt de dimensiunile 15-20 µm.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este polenuri în cazul condiţiilor meteorologice favorabile lor: timp secetos, vânt, se răspândesc la distanţe mari de la planta de origine provocând simptome alergice în masă.</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România se pot destinge 3 sezoane de polenuri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de primăvară ( “sezonul de arbori” ): polenul de alun, ulm, arin, salcie, durează aproximativ din 1 februarie până în 30 Aprilie. Debutul înfloririi acestor arbori este destul de variabil dar deobicei acesta se situează la începutul lunii marti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verii timpurie ( “sezonul ierburilor” ): pajişti cereale 1 mai- 31 iulie. În perioada amintită apar polenurile ierburilor, a cerealelor, buruienilor şi unele polenuri a arborilor târzii (salcâmul, teiul) înfloriţi.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sfârşitului de vară şi toamnă ( “sezonul buruienilor”): polenuri de ambrozie, pelin, urzică, pătlagină 16 iulie- începutul lunii octombri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atea simptomelor alergice depinde în mare măsură de concentraţia actuală a polenului, dar este influenţată şi de factori nespecifici (ex. poluarea aerului, starea fizică şi psihică a pacientulu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tratament</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ncearca tratament medicamentos, etiologic- alergologic sau antiinfect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u Rhinolight- vezi </a:t>
            </a:r>
            <a:r>
              <a:rPr b="0" lang="en-US" sz="3200" spc="-1" strike="noStrike" u="sng">
                <a:solidFill>
                  <a:srgbClr val="86d1ec"/>
                </a:solidFill>
                <a:uFillTx/>
                <a:latin typeface="Arial"/>
                <a:hlinkClick r:id="rId3"/>
              </a:rPr>
              <a:t>www.rhinolight.ro</a:t>
            </a:r>
            <a:r>
              <a:rPr b="0" lang="en-US" sz="3200" spc="-1" strike="noStrike">
                <a:solidFill>
                  <a:srgbClr val="ffffff"/>
                </a:solidFill>
                <a:latin typeface="Arial"/>
              </a:rPr>
              <a:t> si poz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hirurgical prin reductie mucoasa cu radiofrecventa, cu anestezie loca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forait si apnee in somn- oprirea respiratiei in som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pneea de tip obstructiv (SASO)</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neea de tip obstructiv (SASO)</a:t>
            </a:r>
            <a:r>
              <a:rPr b="0" lang="es-ES" sz="2000" spc="-1" strike="noStrike">
                <a:solidFill>
                  <a:srgbClr val="ffffff"/>
                </a:solidFill>
                <a:latin typeface="Arial"/>
              </a:rPr>
              <a:t> se caracterizeaza prin lipsa fluxului la nas si gura pe o durata mai mare de 10 secunde insotita de efort respirat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timpul somnului se produce bascularea posteriora a limbii si valului palatin ce vin in contact cu peretele posterior faringian si determina ocluzia (inchiderea fluxului de la nivelului) nasului si orofaringelui. Fenomenul este urmat de apnee cu scaderea presiunii oxigenului si cresterea presiunii CO2 urmata de microtrezire. Acesta determina deschiderea cailor aeriene superioare  cu hiperventilatie , scaderea PCO2 si diminuarea efortului ventilator cu readormire.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ele mai frecvente cauze ale sforaitului simplu sunt deviatiile de sept nazal, rinite, rinosinuzite cronice, netratate, hipertrofie de amigdale palatine, sau de baza de limba, hipertrofie de lueta(omusor foarte lung)asociate cu crestere in greutate- ingrasare excesiva-acumulare de tesut grasos la nivelul gatului si ale structurilor sale- ce vor vibra mult mai m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e sunt </a:t>
            </a:r>
            <a:r>
              <a:rPr b="1" lang="it-IT" sz="4000" spc="-1" strike="noStrike">
                <a:solidFill>
                  <a:srgbClr val="ffffff"/>
                </a:solidFill>
                <a:latin typeface="Arial"/>
              </a:rPr>
              <a:t>consecintele</a:t>
            </a:r>
            <a:r>
              <a:rPr b="0" lang="it-IT" sz="4000" spc="-1" strike="noStrike">
                <a:solidFill>
                  <a:srgbClr val="ffffff"/>
                </a:solidFill>
                <a:latin typeface="Arial"/>
              </a:rPr>
              <a:t> acestor fragmentari ale somnului</a:t>
            </a:r>
            <a:r>
              <a:rPr b="0" i="1" lang="it-IT" sz="4000" spc="-1" strike="noStrike">
                <a:solidFill>
                  <a:srgbClr val="ffffff"/>
                </a:solidFill>
                <a:latin typeface="Arial"/>
              </a:rPr>
              <a:t>?</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debutul apneei  se produce stimularea parasimpaticului ce determina bradicardie si tulburari de ritm cardiac. La sfarsitul apneei, datorita hipoxiei se produce  stimularea simpaticului cu tahicardie, activarea sistemului renina – angiotensina – aldosteron  cu cresterea valorilor tensionale. Acest joc stimulare simpatic – parasimpatic determina in timp:</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ardiopatie ischemica,</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A rezistenta la tratament,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liglobulie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 pulmona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ndromul metabolic caracterizat prin: cresterea rezistentei la insulina, scaderea secretiei de hormoni anabolici, alterarea tonusului central serotoninergic este tot consecinta a apneei in somn si determina in timp: obezitate cu  agravare SAS, hipertensiune arteriala, diabet zaharat  si hiperlipidemie.</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 asemenea fragmentarea somnului determina hipersomnolenta diurna si tulburari neuropsihi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Tratamentul SASO</a:t>
            </a:r>
            <a:r>
              <a:rPr b="0" lang="it-IT" sz="4000" spc="-1" strike="noStrike">
                <a:solidFill>
                  <a:srgbClr val="ffffff"/>
                </a:solidFill>
                <a:latin typeface="Arial"/>
              </a:rPr>
              <a:t> este indicat in urmatoarele conditii:</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Pacientul are somnolenta diurna, boli cardiovasculare, o inregistrare polisomnografica care sa sustina diagnosticul. Scopul acestuia este de a suprima apneeile, hiponeile, microtrezirile si hipoventilatia in toate stadiile somnului si indiferent de pozitia corpului. In final se urmareste obtinerea unui somn odihnitor si imbunatatirea rezultatelor fizice si psihice ale pacient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Exista mai multe posibilitati de tratament: medical, chirurgical, protetic, dar si mai multe trepte de trata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1) Masuri igienodietetice</a:t>
            </a:r>
            <a:r>
              <a:rPr b="0" lang="it-IT" sz="1800" spc="-1" strike="noStrike">
                <a:solidFill>
                  <a:srgbClr val="ffffff"/>
                </a:solidFill>
                <a:latin typeface="Arial"/>
              </a:rPr>
              <a:t>: corectarea greutatii corporale, evitarea  consumului de alcool, sedative si hipnotice,  normalizarea somnului si  modificarea pozitiei corpului in timpul somnului;</a:t>
            </a:r>
            <a:r>
              <a:rPr b="1" lang="it-IT"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a:t>
            </a:r>
            <a:r>
              <a:rPr b="0" lang="it-IT" sz="1800" spc="-1" strike="noStrike">
                <a:solidFill>
                  <a:srgbClr val="ffffff"/>
                </a:solidFill>
                <a:latin typeface="Arial"/>
              </a:rPr>
              <a:t> </a:t>
            </a:r>
            <a:r>
              <a:rPr b="1" lang="it-IT" sz="1800" spc="-1" strike="noStrike">
                <a:solidFill>
                  <a:srgbClr val="ffffff"/>
                </a:solidFill>
                <a:latin typeface="Arial"/>
              </a:rPr>
              <a:t>Tratamentul ORL al afectiunilor descoperite, </a:t>
            </a:r>
            <a:r>
              <a:rPr b="0" lang="it-IT" sz="1800" spc="-1" strike="noStrike">
                <a:solidFill>
                  <a:srgbClr val="ffffff"/>
                </a:solidFill>
                <a:latin typeface="Arial"/>
              </a:rPr>
              <a:t>ce au rol major in SASO vor fi rezolvate prin inlaturarea pe cat se va putea a cauzelor majore obstructive.- exemplu –</a:t>
            </a:r>
            <a:r>
              <a:rPr b="1" i="1" lang="it-IT" sz="1800" spc="-1" strike="noStrike">
                <a:solidFill>
                  <a:srgbClr val="45c984"/>
                </a:solidFill>
                <a:latin typeface="Arial"/>
              </a:rPr>
              <a:t>tratamente medicamentoase</a:t>
            </a:r>
            <a:r>
              <a:rPr b="0" i="1" lang="it-IT" sz="1800" spc="-1" strike="noStrike">
                <a:solidFill>
                  <a:srgbClr val="45c984"/>
                </a:solidFill>
                <a:latin typeface="Arial"/>
              </a:rPr>
              <a:t> pentru rinite, rinosinuzite cronice,</a:t>
            </a:r>
            <a:r>
              <a:rPr b="0" lang="it-IT" sz="1800" spc="-1" strike="noStrike">
                <a:solidFill>
                  <a:srgbClr val="ffffff"/>
                </a:solidFill>
                <a:latin typeface="Arial"/>
              </a:rPr>
              <a:t> faringite, laringite cronice cu boala de reflux, </a:t>
            </a:r>
            <a:r>
              <a:rPr b="1" lang="it-IT" sz="1800" spc="-1" strike="noStrike">
                <a:solidFill>
                  <a:srgbClr val="ffffff"/>
                </a:solidFill>
                <a:latin typeface="Arial"/>
              </a:rPr>
              <a:t>tratamente cu rhinolight</a:t>
            </a:r>
            <a:r>
              <a:rPr b="0" lang="it-IT" sz="1800" spc="-1" strike="noStrike">
                <a:solidFill>
                  <a:srgbClr val="ffffff"/>
                </a:solidFill>
                <a:latin typeface="Arial"/>
              </a:rPr>
              <a:t> pentru rinite alergice, dependete de picaturi vasoconstrictoare, precum si </a:t>
            </a:r>
            <a:r>
              <a:rPr b="1" lang="it-IT" sz="1800" spc="-1" strike="noStrike">
                <a:solidFill>
                  <a:srgbClr val="ffffff"/>
                </a:solidFill>
                <a:latin typeface="Arial"/>
              </a:rPr>
              <a:t>tratamente de mica chirurgie interventionala</a:t>
            </a:r>
            <a:r>
              <a:rPr b="0" lang="it-IT" sz="1800" spc="-1" strike="noStrike">
                <a:solidFill>
                  <a:srgbClr val="ffffff"/>
                </a:solidFill>
                <a:latin typeface="Arial"/>
              </a:rPr>
              <a:t> cu sau fara radiofrecventa – interventii la nivelul septului nazal, mucotomii, turbinectomii, adenoidectomii,  uvulo-veloplastii,etc.</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Tratamentul specific (a)nCPAP</a:t>
            </a:r>
            <a:r>
              <a:rPr b="0" lang="it-IT" sz="2400" spc="-1" strike="noStrike">
                <a:solidFill>
                  <a:srgbClr val="ffffff"/>
                </a:solidFill>
                <a:latin typeface="Arial"/>
              </a:rPr>
              <a:t> - insuflarea prin fosele nazale, de aer cu presiune, prin intermediul unei interfete (masca nasala sau faciala) etansa cuplata la un aparat cu rol de compresor. Presiunea cu care se introduce aerul trebuie sa fie suficient de mare pentru a putea preveni obstructia faringiana si a induce suprimarea apneilor. La pacientii cu insuficienta respiratorie, dependenti de oxigen,  circuitul dispozitivelor pemite si administrarea de oxigen. </a:t>
            </a:r>
            <a:r>
              <a:rPr b="1" lang="it-IT" sz="2400" spc="-1" strike="noStrike">
                <a:solidFill>
                  <a:srgbClr val="ffffff"/>
                </a:solidFill>
                <a:latin typeface="Arial"/>
              </a:rPr>
              <a:t>(b)Tratament protetic</a:t>
            </a:r>
            <a:r>
              <a:rPr b="0" lang="it-IT" sz="2400" spc="-1" strike="noStrike">
                <a:solidFill>
                  <a:srgbClr val="ffffff"/>
                </a:solidFill>
                <a:latin typeface="Arial"/>
              </a:rPr>
              <a:t>- avansarea temporara a mandibulei sau a limbii pe perioada somnului folosind ortezele orale constituie o metoda adecvata de a mentine un pasaj aerian superior favorabi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TATEA</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en fibroscopi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atii sep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zite</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 rinobronsitice</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 ototub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a tuba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ita seroasa</a:t>
            </a:r>
            <a:endParaRPr b="0" lang="en-US" sz="2800" spc="-1" strike="noStrike">
              <a:solidFill>
                <a:srgbClr val="ffffff"/>
              </a:solidFill>
              <a:latin typeface="Arial"/>
            </a:endParaRPr>
          </a:p>
        </p:txBody>
      </p:sp>
      <p:pic>
        <p:nvPicPr>
          <p:cNvPr id="173" name="" descr=""/>
          <p:cNvPicPr/>
          <p:nvPr/>
        </p:nvPicPr>
        <p:blipFill>
          <a:blip r:embed="rId8"/>
          <a:stretch/>
        </p:blipFill>
        <p:spPr>
          <a:xfrm>
            <a:off x="5300640" y="1600200"/>
            <a:ext cx="2732040" cy="2187720"/>
          </a:xfrm>
          <a:prstGeom prst="rect">
            <a:avLst/>
          </a:prstGeom>
          <a:ln w="0">
            <a:noFill/>
          </a:ln>
        </p:spPr>
      </p:pic>
      <p:pic>
        <p:nvPicPr>
          <p:cNvPr id="174" name="" descr=""/>
          <p:cNvPicPr/>
          <p:nvPr/>
        </p:nvPicPr>
        <p:blipFill>
          <a:blip r:embed="rId9"/>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ul</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pecte nor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mucoasa nazala hipertrofica)</a:t>
            </a:r>
            <a:endParaRPr b="0" lang="en-US" sz="2800" spc="-1" strike="noStrike">
              <a:solidFill>
                <a:srgbClr val="ffffff"/>
              </a:solidFill>
              <a:latin typeface="Arial"/>
            </a:endParaRPr>
          </a:p>
        </p:txBody>
      </p:sp>
      <p:pic>
        <p:nvPicPr>
          <p:cNvPr id="177" name="" descr=""/>
          <p:cNvPicPr/>
          <p:nvPr/>
        </p:nvPicPr>
        <p:blipFill>
          <a:blip r:embed="rId3"/>
          <a:stretch/>
        </p:blipFill>
        <p:spPr>
          <a:xfrm>
            <a:off x="5300640" y="1600200"/>
            <a:ext cx="2732040" cy="2187720"/>
          </a:xfrm>
          <a:prstGeom prst="rect">
            <a:avLst/>
          </a:prstGeom>
          <a:ln w="0">
            <a:noFill/>
          </a:ln>
        </p:spPr>
      </p:pic>
      <p:pic>
        <p:nvPicPr>
          <p:cNvPr id="178" name="" descr=""/>
          <p:cNvPicPr/>
          <p:nvPr/>
        </p:nvPicPr>
        <p:blipFill>
          <a:blip r:embed="rId4"/>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a din dependenta de vaso- constrictoare- gen xylometazoline- Olynth-mucoasa arsa, lezata, crustoasa</a:t>
            </a:r>
            <a:endParaRPr b="0" lang="en-US" sz="2800" spc="-1" strike="noStrike">
              <a:solidFill>
                <a:srgbClr val="ffffff"/>
              </a:solidFill>
              <a:latin typeface="Arial"/>
            </a:endParaRPr>
          </a:p>
        </p:txBody>
      </p:sp>
      <p:pic>
        <p:nvPicPr>
          <p:cNvPr id="181" name="" descr=""/>
          <p:cNvPicPr/>
          <p:nvPr/>
        </p:nvPicPr>
        <p:blipFill>
          <a:blip r:embed="rId2"/>
          <a:stretch/>
        </p:blipFill>
        <p:spPr>
          <a:xfrm>
            <a:off x="5300640" y="1600200"/>
            <a:ext cx="2732040" cy="2187720"/>
          </a:xfrm>
          <a:prstGeom prst="rect">
            <a:avLst/>
          </a:prstGeom>
          <a:ln w="0">
            <a:noFill/>
          </a:ln>
        </p:spPr>
      </p:pic>
      <p:pic>
        <p:nvPicPr>
          <p:cNvPr id="182" name="" descr=""/>
          <p:cNvPicPr/>
          <p:nvPr/>
        </p:nvPicPr>
        <p:blipFill>
          <a:blip r:embed="rId3"/>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tamente cu picaturi naz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le alergi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osinuzite infectoalergic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dependente de DNF</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e tubare</a:t>
            </a:r>
            <a:endParaRPr b="0" lang="en-US" sz="2800" spc="-1" strike="noStrike">
              <a:solidFill>
                <a:srgbClr val="ffffff"/>
              </a:solidFill>
              <a:latin typeface="Arial"/>
            </a:endParaRPr>
          </a:p>
        </p:txBody>
      </p:sp>
      <p:sp>
        <p:nvSpPr>
          <p:cNvPr id="185" name="PlaceHolder 3"/>
          <p:cNvSpPr>
            <a:spLocks noGrp="1"/>
          </p:cNvSpPr>
          <p:nvPr>
            <p:ph/>
          </p:nvPr>
        </p:nvSpPr>
        <p:spPr>
          <a:xfrm>
            <a:off x="4648320" y="1523880"/>
            <a:ext cx="4495680" cy="4602240"/>
          </a:xfrm>
          <a:prstGeom prst="rect">
            <a:avLst/>
          </a:prstGeom>
          <a:noFill/>
          <a:ln w="0">
            <a:noFill/>
          </a:ln>
        </p:spPr>
        <p:txBody>
          <a:bodyPr lIns="90000" rIns="90000" tIns="46800" bIns="46800" anchor="t">
            <a:normAutofit/>
          </a:bodyPr>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 tratament cronic 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alergice perene</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e nazale recidivante</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poza invalidanta recidivanta</a:t>
            </a:r>
            <a:endParaRPr b="0" lang="en-US" sz="4400" spc="-1" strike="noStrike">
              <a:solidFill>
                <a:srgbClr val="ffffff"/>
              </a:solidFill>
              <a:latin typeface="Arial"/>
            </a:endParaRPr>
          </a:p>
        </p:txBody>
      </p:sp>
      <p:pic>
        <p:nvPicPr>
          <p:cNvPr id="187" name="" descr=""/>
          <p:cNvPicPr/>
          <p:nvPr/>
        </p:nvPicPr>
        <p:blipFill>
          <a:blip r:embed="rId1"/>
          <a:stretch/>
        </p:blipFill>
        <p:spPr>
          <a:xfrm>
            <a:off x="5300640" y="1600200"/>
            <a:ext cx="2732040" cy="2187720"/>
          </a:xfrm>
          <a:prstGeom prst="rect">
            <a:avLst/>
          </a:prstGeom>
          <a:ln w="0">
            <a:noFill/>
          </a:ln>
        </p:spPr>
      </p:pic>
      <p:pic>
        <p:nvPicPr>
          <p:cNvPr id="188" name="" descr=""/>
          <p:cNvPicPr/>
          <p:nvPr/>
        </p:nvPicPr>
        <p:blipFill>
          <a:blip r:embed="rId2"/>
          <a:stretch/>
        </p:blipFill>
        <p:spPr>
          <a:xfrm>
            <a:off x="1108080" y="3941640"/>
            <a:ext cx="2735280" cy="2189160"/>
          </a:xfrm>
          <a:prstGeom prst="rect">
            <a:avLst/>
          </a:prstGeom>
          <a:ln w="0">
            <a:noFill/>
          </a:ln>
        </p:spPr>
      </p:pic>
      <p:pic>
        <p:nvPicPr>
          <p:cNvPr id="189" name="" descr=""/>
          <p:cNvPicPr/>
          <p:nvPr/>
        </p:nvPicPr>
        <p:blipFill>
          <a:blip r:embed="rId3"/>
          <a:stretch/>
        </p:blipFill>
        <p:spPr>
          <a:xfrm>
            <a:off x="5299200" y="3941640"/>
            <a:ext cx="2735280" cy="2189160"/>
          </a:xfrm>
          <a:prstGeom prst="rect">
            <a:avLst/>
          </a:prstGeom>
          <a:ln w="0">
            <a:noFill/>
          </a:ln>
        </p:spPr>
      </p:pic>
      <p:pic>
        <p:nvPicPr>
          <p:cNvPr id="190" name="" descr=""/>
          <p:cNvPicPr/>
          <p:nvPr/>
        </p:nvPicPr>
        <p:blipFill>
          <a:blip r:embed="rId4"/>
          <a:stretch/>
        </p:blipFill>
        <p:spPr>
          <a:xfrm>
            <a:off x="457200" y="1599840"/>
            <a:ext cx="403848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a nazala , de obicei de cauza alergica, dar si dupa sinuzite cronice netrata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ita investigatii, CT, ex fibroendoscopic, operatie</a:t>
            </a:r>
            <a:endParaRPr b="0" lang="en-US" sz="2800" spc="-1" strike="noStrike">
              <a:solidFill>
                <a:srgbClr val="ffffff"/>
              </a:solidFill>
              <a:latin typeface="Arial"/>
            </a:endParaRPr>
          </a:p>
        </p:txBody>
      </p:sp>
      <p:pic>
        <p:nvPicPr>
          <p:cNvPr id="193" name="" descr=""/>
          <p:cNvPicPr/>
          <p:nvPr/>
        </p:nvPicPr>
        <p:blipFill>
          <a:blip r:embed="rId3"/>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initele si rinosinuzitele alergice</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nita alergică</a:t>
            </a:r>
            <a:r>
              <a:rPr b="0" lang="en-US" sz="2400" spc="-1" strike="noStrike">
                <a:solidFill>
                  <a:srgbClr val="ffffff"/>
                </a:solidFill>
                <a:latin typeface="Arial"/>
              </a:rPr>
              <a:t> este o boală inflamatorie a mucoasei nazale şi a sinusurilor paranazale, care se dezvoltă şi este intreţinută de factori alergici.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este boala alergică cea mai frecventă, care afectează circa 10-20% din populaţie. În ultimii ani, în special în ţările industrializate, această boală are o rată de creştere accelerată. Secolul XXI. este supranumit şi secolul alergiei.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nu este o boală gravă, dar simptomele ei neplăcute pot deteriora în mare măsură calitatea vieţii. La 20% din cazuri se asociază şi tulburări respiratorii de tip ast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ita alergică are următoarele simptome caracteristice:</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urit nazal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ănut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oree şi obstrucţie nazală,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âncărime a faringelui, a meatului auditiv extern şi ale ochilor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ăcrimar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dem palpebral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erderea simţului olfactiv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lile imflamatorii ale foselor nazale şi ale sinusurilor vecine au de cele mai multe ori origine alergică.</a:t>
            </a:r>
            <a:br>
              <a:rPr sz="1600"/>
            </a:br>
            <a:br>
              <a:rPr sz="1600"/>
            </a:br>
            <a:r>
              <a:rPr b="0" lang="de-DE" sz="1600" spc="-1" strike="noStrike">
                <a:solidFill>
                  <a:srgbClr val="ffffff"/>
                </a:solidFill>
                <a:latin typeface="Arial"/>
              </a:rPr>
              <a:t>Pe baza simptomelor cele mai evidente, bolnavii de rinită alergică se împart în doua grupe: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parte din bolnavi acuză în primul rând strănut şi rinoree, simptome care survin în crize şi care sunt mai pregnante ziua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altă parte a bolnavilor acuză obstrucţie nazală masivă, cantitatea de secreţii este minimă; secreţiile sunt viscoase şi se drenează spre faringe. </a:t>
            </a:r>
            <a:r>
              <a:rPr b="0" lang="en-GB" sz="1600" spc="-1" strike="noStrike">
                <a:solidFill>
                  <a:srgbClr val="ffffff"/>
                </a:solidFill>
                <a:latin typeface="Arial"/>
              </a:rPr>
              <a:t>La aceşti bolnavi, simptomele sunt mai evidente în cursul nopţii.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4-15T16:58: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